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8D1-448D-40A2-9E2C-3378F18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ECE-089A-4591-A7E6-04F0EB33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E75-4E18-4192-8044-3631618D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02B-E35D-4046-9D0A-3CAA7464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736-80C7-40BC-B2AD-7B9ACB54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F09-8F0B-42D9-84FF-1782B61A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F8D-8EAC-4402-A5C0-C876B53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A19-24F5-4ADA-8185-FC31891A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846-1383-4D36-A40E-2DE6896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F37-2FD7-4EB9-9E51-6943916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4D9-4CD1-432A-A616-CB252CE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003-CB9B-4AF3-B699-4AE3090B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D354-7D20-4E73-B143-D3CCEB7E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838080"/>
                <a:ext cx="69008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914400"/>
                <a:ext cx="4876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5T15:50:08Z</dcterms:modified>
  <cp:revision>9</cp:revision>
  <dc:subject/>
  <dc:title>PowerPoint Presentation</dc:title>
</cp:coreProperties>
</file>