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C69-98D0-44DE-903A-67D18BFC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AEB-E051-4CE1-B830-A61298B4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636-2B57-47D5-B8C4-D2155F7E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C4D-4181-42B8-B89A-7C3A0BE6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997-6973-40E3-89FB-B8E68DFE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618-619F-48F8-B239-BFC09526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8D1-3F4E-4800-8F98-77B5AD8B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EA4-E8E6-4FF4-B490-3981295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7FD-3774-48BD-BD62-8596849C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D14-975D-4D39-BBDC-460F647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609-1D86-45F3-BEC6-737C40F9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F96-D062-4BD4-94DB-EC37198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0A68-DB06-47D1-AEA0-429AEDC02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649440"/>
                <a:ext cx="5334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5920" y="1523880"/>
                <a:ext cx="559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6320" y="2895480"/>
                <a:ext cx="7221240" cy="32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,0,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 be expressed as sum of sinusoids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320" y="228600"/>
                <a:ext cx="608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320" y="1371600"/>
                <a:ext cx="53337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320" y="2709720"/>
                <a:ext cx="7169040" cy="382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π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3520" y="1523880"/>
                <a:ext cx="4876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380880"/>
                <a:ext cx="4876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52440" y="380880"/>
                <a:ext cx="72626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6019920"/>
                <a:ext cx="4876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8600" y="76320"/>
                <a:ext cx="5181480" cy="15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2400" y="1828800"/>
                <a:ext cx="882468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7240" y="3352680"/>
                <a:ext cx="7638840" cy="34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/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π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320" y="304920"/>
                <a:ext cx="4211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1143000"/>
                <a:ext cx="48988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80" y="2590920"/>
                <a:ext cx="7143840" cy="35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πk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7T21:28:02Z</dcterms:modified>
  <cp:revision>17</cp:revision>
  <dc:subject/>
  <dc:title>PowerPoint Presentation</dc:title>
</cp:coreProperties>
</file>